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F8DF4-A872-4469-8771-66251DC7D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8B27D-DA3E-40DC-9F20-E31869EE7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3A1DF-3B08-4D20-A939-B4FE996DF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44203-43FE-4843-A767-75E03047A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F6644-F6DB-4EF4-91C0-87D722042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424B5-B2A1-4E72-BA90-BF24C6A20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E4466-3580-4905-8CA9-16FC15D30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4463D-701B-422D-9273-ABDB769B7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7EFB8-6D31-4CB3-A036-F42237B8C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590BF-7BA2-4B2B-B438-DBC1253D9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92FD1-C6BE-492A-83F5-D1722E243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A7BEC-338B-4238-925C-C14B28C57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DEC35-D86E-460C-A689-6A929AB3C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04EDF-90D5-499F-B97C-4D3659747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FFF86-39B9-4A32-8A77-E017C1753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7BB5E-2E8D-4898-BF48-B4A8863064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4004D-1AEE-4192-8DEE-9695DBCE5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E62D3E-5580-4123-8936-EA42581AD9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1561D-76C5-47E8-AE33-44A73A0B20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9704F7-E609-470C-9114-1F2BA67692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94052-8377-46B8-AE77-D1A19333E1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897E6-A8CB-4752-B4DC-79A2A56A2F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084C8-68B4-4D87-B6D2-DEC9143B7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DBC402-466C-445D-B87A-BFE207B27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242902-4BD5-4D24-8F9B-B9A9F54DB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7CF7F-8567-4219-A985-BB5E0D753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8ED15-1F89-454F-8D0F-F963443610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EB0BF2-0D33-46CC-83D6-103346A8C2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952BE3-2C97-4B69-B40A-A62B27E751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35DE48-DF90-4496-9C48-42EB7FBD9E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4BC6D9-B482-4865-818A-EA98061C28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7990B4-741F-48C7-B635-BD4BAFFEBC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90C5C2-F1A9-4F63-B3A8-4C1541BD5B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FEBD4-0BFA-4857-9C2D-01DF44D55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B7FB71-3A84-4072-959C-10DD5E2A2F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45DE0-1CBB-4935-B9CA-ADD8E4575D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067B65-DF0D-4304-80D4-28F72F3AAD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376CAB-D1E0-4901-9D8F-E9C835D63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49AC0-2605-44D0-BE49-0C65FEE0F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241AB5-E785-4DA1-BAC2-7FDAA195E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79956F-CF2F-4FBD-B1F6-77F6D6591A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7C22D9-FE9B-4EF2-B5DD-6CC9C1327E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F7E978-2A1B-4FCA-A7AF-87AD25E340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20357E-A364-46AA-8FDE-6C6FE094FF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73109-262A-41D4-B920-9D991E70B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447C1E-5A30-49BD-87DE-D5E8D073C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7C1BA2-D829-4C95-8C65-3BE46C3B34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823E23-4F0E-48C1-A963-3FA7473B4C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E9EBC1-BA6B-4B10-B66A-081A49BB48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51DBDA-894C-444D-88BE-3569984D0F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0EBD5-B351-4946-8055-940EA5DF91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D59B2B-DA0E-4645-81CC-C552A0A492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18959C-05BA-4B6B-BA04-48D3C17DD9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093700-F6CB-4131-B79A-0E6F38AFAB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F68E15-9324-4B95-8855-F83B20D261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1645C-0E21-4746-BF18-FC4723D43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47363A-0F82-435E-9300-3DCB2FE5A5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4CE6DD-8CE0-4B56-94DD-CD23A28551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7DEE3C-15DE-4AA4-A983-6C272E305A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1169FC-D1AD-450B-A5AC-620AB64035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3DAFFE-7687-475D-BD11-CD36F7538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9F3BC8-EC60-461E-B422-781D54227A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278D0D-E12F-47F8-89FD-892ED2105A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F6DE71-D784-4BE6-9D82-8B374CB2A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04EEC1-1C25-49CF-931C-924ED7818A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FB162-A6E1-4003-A24D-E65681AA50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F8B88-C3E1-4AA7-BCC2-D678FE586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D806BB-BA32-4309-B951-7AB20819FD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09B991-86CE-4ACB-9BBB-61D48E75DD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0C4614-0DEF-4043-9BFF-5523C73BBE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73D351-2025-4A40-8FA3-8D7CB8B780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357518-EDBA-4D6A-9FFF-045F0F0492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711BB2-AFCE-4AA6-9DF0-8A8F8CF2CD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D85B6A-4B28-4D22-95F7-B02178E5FB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829E90-FF89-473C-8DD8-67195F038F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F13873-DFAF-434A-8E47-86F0513291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4F9828-4B52-4043-8FB4-A846353982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2FED-5A07-48D0-9CB3-E2201961B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FCFF3F-1D30-48B8-8995-8CEFA1E60F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98ED83-D604-48C5-A39D-D8302E18FA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96FB85-1C4E-420E-BA3E-5B6C2034E1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650B03-6A66-4FAF-B61D-63C8CD8EB6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69F045-CF9C-4DF9-82EA-9571A3ABD0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0770A-5339-4AFB-B24C-1B9FE77B3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B86D-7448-41CF-87CB-C56ED9F5126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E1C6-CA80-46D8-9158-56DF6522D90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D5DF-121A-4252-B153-4C9F8D64245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F0B5-F5E0-4311-A962-21B2393C94C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ECCC-12BE-412E-924A-B9B24682EBB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EC44-D858-4D3F-BC81-12430B07CBE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E57A-5165-4AA4-96C2-A309AC441D5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1218960"/>
            <a:ext cx="6858000" cy="70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1eeff"/>
                </a:solidFill>
                <a:latin typeface="Consolas"/>
              </a:rPr>
              <a:t>This is what people with neurofibromatosis have to face every day.</a:t>
            </a:r>
            <a:endParaRPr b="0" lang="en-US" sz="1900" spc="-1" strike="noStrike">
              <a:solidFill>
                <a:srgbClr val="c1eeff"/>
              </a:solidFill>
              <a:latin typeface="Consolas"/>
            </a:endParaRPr>
          </a:p>
        </p:txBody>
      </p:sp>
      <p:pic>
        <p:nvPicPr>
          <p:cNvPr id="369" name="" descr=""/>
          <p:cNvPicPr/>
          <p:nvPr/>
        </p:nvPicPr>
        <p:blipFill>
          <a:blip r:embed="rId1"/>
          <a:stretch/>
        </p:blipFill>
        <p:spPr>
          <a:xfrm>
            <a:off x="367920" y="1893960"/>
            <a:ext cx="8777160" cy="4959360"/>
          </a:xfrm>
          <a:prstGeom prst="rect">
            <a:avLst/>
          </a:prstGeom>
          <a:ln w="0">
            <a:noFill/>
          </a:ln>
        </p:spPr>
      </p:pic>
      <p:sp>
        <p:nvSpPr>
          <p:cNvPr id="370" name="PlaceHolder 2"/>
          <p:cNvSpPr>
            <a:spLocks noGrp="1"/>
          </p:cNvSpPr>
          <p:nvPr>
            <p:ph/>
          </p:nvPr>
        </p:nvSpPr>
        <p:spPr>
          <a:xfrm>
            <a:off x="762120" y="6171840"/>
            <a:ext cx="6858000" cy="685800"/>
          </a:xfrm>
          <a:prstGeom prst="rect">
            <a:avLst/>
          </a:prstGeom>
          <a:noFill/>
          <a:ln w="0">
            <a:noFill/>
          </a:ln>
        </p:spPr>
        <p:txBody>
          <a:bodyPr anchor="t">
            <a:normAutofit/>
          </a:bodyPr>
          <a:p>
            <a:pPr marL="27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By Alexa Fentum</a:t>
            </a:r>
            <a:endParaRPr b="0" lang="en-US" sz="2000" spc="-1" strike="noStrike">
              <a:solidFill>
                <a:srgbClr val="ffffff"/>
              </a:solidFill>
              <a:latin typeface="Corbel"/>
            </a:endParaRPr>
          </a:p>
          <a:p>
            <a:pPr marL="27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5/6</a:t>
            </a:r>
            <a:endParaRPr b="0" lang="en-US" sz="2000" spc="-1" strike="noStrike">
              <a:solidFill>
                <a:srgbClr val="ffffff"/>
              </a:solidFill>
              <a:latin typeface="Corbel"/>
            </a:endParaRPr>
          </a:p>
        </p:txBody>
      </p:sp>
      <p:pic>
        <p:nvPicPr>
          <p:cNvPr id="371" name="Picture 4" descr="http://www.lifeinthefastlane.ca/wp-content/uploads/2008/06/james_oneal_1.jpg"/>
          <p:cNvPicPr/>
          <p:nvPr/>
        </p:nvPicPr>
        <p:blipFill>
          <a:blip r:embed="rId2"/>
          <a:stretch/>
        </p:blipFill>
        <p:spPr>
          <a:xfrm>
            <a:off x="1981080" y="2057400"/>
            <a:ext cx="5435640" cy="4076640"/>
          </a:xfrm>
          <a:prstGeom prst="rect">
            <a:avLst/>
          </a:prstGeom>
          <a:ln w="0">
            <a:noFill/>
          </a:ln>
        </p:spPr>
      </p:pic>
      <p:pic>
        <p:nvPicPr>
          <p:cNvPr id="372" name="Rectangle 10" descr=""/>
          <p:cNvPicPr/>
          <p:nvPr/>
        </p:nvPicPr>
        <p:blipFill>
          <a:blip r:embed="rId3"/>
          <a:stretch/>
        </p:blipFill>
        <p:spPr>
          <a:xfrm>
            <a:off x="36360" y="-225360"/>
            <a:ext cx="629784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eeff"/>
                </a:solidFill>
                <a:latin typeface="Consolas"/>
              </a:rPr>
              <a:t>Neurofibromatosis</a:t>
            </a:r>
            <a:endParaRPr b="0" lang="en-US" sz="2800" spc="-1" strike="noStrike">
              <a:solidFill>
                <a:srgbClr val="c1eeff"/>
              </a:solidFill>
              <a:latin typeface="Consolas"/>
            </a:endParaRPr>
          </a:p>
        </p:txBody>
      </p:sp>
      <p:sp>
        <p:nvSpPr>
          <p:cNvPr id="374" name=""/>
          <p:cNvSpPr txBox="1"/>
          <p:nvPr/>
        </p:nvSpPr>
        <p:spPr>
          <a:xfrm>
            <a:off x="465120" y="1770120"/>
            <a:ext cx="4038480" cy="4525920"/>
          </a:xfrm>
          <a:prstGeom prst="rect">
            <a:avLst/>
          </a:prstGeom>
          <a:noFill/>
          <a:ln w="0">
            <a:noFill/>
          </a:ln>
        </p:spPr>
        <p:txBody>
          <a:bodyPr anchor="t">
            <a:normAutofit fontScale="95000"/>
          </a:bodyPr>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Times New Roman"/>
              </a:rPr>
              <a:t>Discovered by Friedrich Daniel van Recklinghausen in 1882.</a:t>
            </a:r>
            <a:endParaRPr b="0" lang="en-US" sz="24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Times New Roman"/>
              </a:rPr>
              <a:t>It was first discovered in Paris, France. It is caused by gene mutations of the NF1 gene. Even though it only occurs in every three thousand live births, 75,000 are affected in the United States alone. </a:t>
            </a:r>
            <a:endParaRPr b="0" lang="en-US" sz="2400" spc="-1" strike="noStrike">
              <a:solidFill>
                <a:srgbClr val="ffffff"/>
              </a:solidFill>
              <a:latin typeface="Corbel"/>
            </a:endParaRPr>
          </a:p>
        </p:txBody>
      </p:sp>
      <p:sp>
        <p:nvSpPr>
          <p:cNvPr id="375" name=""/>
          <p:cNvSpPr txBox="1"/>
          <p:nvPr/>
        </p:nvSpPr>
        <p:spPr>
          <a:xfrm>
            <a:off x="4656240" y="1770120"/>
            <a:ext cx="4038480" cy="452592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Times New Roman"/>
              </a:rPr>
              <a:t>It is a genetic disorder. It causes tumors to grow on nerve tissue, producing skin and bone abnormalities. It can affect any organ. It is on chromosome 17. Type two is on chromosome 22. It is recessive.</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7" name=""/>
          <p:cNvSpPr txBox="1"/>
          <p:nvPr/>
        </p:nvSpPr>
        <p:spPr>
          <a:xfrm>
            <a:off x="465120" y="1770120"/>
            <a:ext cx="403848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Times New Roman"/>
              </a:rPr>
              <a:t>Fortunately you can live with this disease. The prognosis is generally mild but can be severe.</a:t>
            </a:r>
            <a:endParaRPr b="0" lang="en-US" sz="3200" spc="-1" strike="noStrike">
              <a:solidFill>
                <a:srgbClr val="ffffff"/>
              </a:solidFill>
              <a:latin typeface="Corbel"/>
            </a:endParaRPr>
          </a:p>
        </p:txBody>
      </p:sp>
      <p:sp>
        <p:nvSpPr>
          <p:cNvPr id="378" name=""/>
          <p:cNvSpPr txBox="1"/>
          <p:nvPr/>
        </p:nvSpPr>
        <p:spPr>
          <a:xfrm>
            <a:off x="4656240" y="1770120"/>
            <a:ext cx="403848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Times New Roman"/>
              </a:rPr>
              <a:t>There is no testing to be done to determine whether a pregnant woman’s baby has this disease. There is also no specific treatment except removal of these tumors.</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0" name=""/>
          <p:cNvSpPr txBox="1"/>
          <p:nvPr/>
        </p:nvSpPr>
        <p:spPr>
          <a:xfrm>
            <a:off x="465120" y="1770120"/>
            <a:ext cx="4038480" cy="4525920"/>
          </a:xfrm>
          <a:prstGeom prst="rect">
            <a:avLst/>
          </a:prstGeom>
          <a:noFill/>
          <a:ln w="0">
            <a:noFill/>
          </a:ln>
        </p:spPr>
        <p:txBody>
          <a:bodyPr anchor="t">
            <a:normAutofit fontScale="92000"/>
          </a:bodyPr>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rbel"/>
              </a:rPr>
              <a:t>Citations:</a:t>
            </a: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rbel"/>
              </a:rPr>
              <a:t>Kids Health. "Diseases." </a:t>
            </a:r>
            <a:r>
              <a:rPr b="1" i="1" lang="en-US" sz="1500" spc="-1" strike="noStrike">
                <a:solidFill>
                  <a:srgbClr val="ffffff"/>
                </a:solidFill>
                <a:latin typeface="Corbel"/>
              </a:rPr>
              <a:t>KidsHealth.com</a:t>
            </a:r>
            <a:r>
              <a:rPr b="1" lang="en-US" sz="1500" spc="-1" strike="noStrike">
                <a:solidFill>
                  <a:srgbClr val="ffffff"/>
                </a:solidFill>
                <a:latin typeface="Corbel"/>
              </a:rPr>
              <a:t>. Kids Health. Web. 25 Oct. 2009. &lt;http://kidshealth.org/parent/system/ill/nf.html&gt;.</a:t>
            </a: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rbel"/>
              </a:rPr>
              <a:t>Wikipedia. "Neurofibromatosis." </a:t>
            </a:r>
            <a:r>
              <a:rPr b="1" i="1" lang="en-US" sz="1500" spc="-1" strike="noStrike">
                <a:solidFill>
                  <a:srgbClr val="ffffff"/>
                </a:solidFill>
                <a:latin typeface="Corbel"/>
              </a:rPr>
              <a:t>Wikipedia</a:t>
            </a:r>
            <a:r>
              <a:rPr b="1" lang="en-US" sz="1500" spc="-1" strike="noStrike">
                <a:solidFill>
                  <a:srgbClr val="ffffff"/>
                </a:solidFill>
                <a:latin typeface="Corbel"/>
              </a:rPr>
              <a:t>. Wikipedia. Web. 25 Oct. 2009. &lt;http://wiki.answers.com/Q/Who_discovered_neurofibromatosis&gt;.</a:t>
            </a: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rbel"/>
              </a:rPr>
              <a:t>NCBI. "Neurofibromatosis." </a:t>
            </a:r>
            <a:r>
              <a:rPr b="1" i="1" lang="en-US" sz="1500" spc="-1" strike="noStrike">
                <a:solidFill>
                  <a:srgbClr val="ffffff"/>
                </a:solidFill>
                <a:latin typeface="Corbel"/>
              </a:rPr>
              <a:t>NCBI</a:t>
            </a:r>
            <a:r>
              <a:rPr b="1" lang="en-US" sz="1500" spc="-1" strike="noStrike">
                <a:solidFill>
                  <a:srgbClr val="ffffff"/>
                </a:solidFill>
                <a:latin typeface="Corbel"/>
              </a:rPr>
              <a:t>. Web. 25 Oct. 2009. &lt;http://www.ncbi.nlm.nih.gov/books/bv.fcgi?rid=gnd.section.210&gt;.</a:t>
            </a: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rbel"/>
              </a:rPr>
              <a:t>http://www.lifeinthefastlane.ca/modern-day-elephant-man-heroes/offbeat-news</a:t>
            </a: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rbel"/>
              </a:rPr>
              <a:t>Brown University. "Neurofibromatosis." </a:t>
            </a:r>
            <a:r>
              <a:rPr b="1" i="1" lang="en-US" sz="1500" spc="-1" strike="noStrike">
                <a:solidFill>
                  <a:srgbClr val="ffffff"/>
                </a:solidFill>
                <a:latin typeface="Corbel"/>
              </a:rPr>
              <a:t>Neural Crest &amp; Associated Disorders</a:t>
            </a:r>
            <a:r>
              <a:rPr b="1" lang="en-US" sz="1500" spc="-1" strike="noStrike">
                <a:solidFill>
                  <a:srgbClr val="ffffff"/>
                </a:solidFill>
                <a:latin typeface="Corbel"/>
              </a:rPr>
              <a:t>. Brown University. Web. 25 Oct. 2009. &lt;http://brown.edu/Courses/BI0032/neurcrst/nfibma.htm&gt;.</a:t>
            </a: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p:txBody>
      </p:sp>
      <p:sp>
        <p:nvSpPr>
          <p:cNvPr id="381" name=""/>
          <p:cNvSpPr txBox="1"/>
          <p:nvPr/>
        </p:nvSpPr>
        <p:spPr>
          <a:xfrm>
            <a:off x="4656240" y="1770120"/>
            <a:ext cx="4038480" cy="452592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00:46:36Z</dcterms:created>
  <dc:creator>Marie Callaway</dc:creator>
  <dc:description/>
  <dc:language>en-US</dc:language>
  <cp:lastModifiedBy>ad12</cp:lastModifiedBy>
  <dcterms:modified xsi:type="dcterms:W3CDTF">2009-10-27T18:16:15Z</dcterms:modified>
  <cp:revision>10</cp:revision>
  <dc:subject/>
  <dc:title>Slide 1</dc:title>
</cp:coreProperties>
</file>